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351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3516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3194-2E53-4EED-9AEB-E473F1252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3552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2D6-0835-4AD3-8BE2-9223D773F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3552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7AA0-3EEC-450D-88FB-03AD2A3C9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93552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5EA5-E48C-4AC7-9952-C04B7C88C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93552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1DD6-A2B8-4987-B17E-D8187F97E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95160" y="4410000"/>
            <a:ext cx="55562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35520" y="881856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CBEE-C130-42A7-8788-CCEC8AF24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CEE-4FFC-4C4C-9ED3-A54A88EDD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3FE-9D94-44F7-8483-54EE1B68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17F-B20D-4784-A9F1-F7E1E3EC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4A0E-5D8A-48CA-81EC-721E9F4E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1B43A-D79F-4934-B0D1-500CEF678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63DB-86B8-4BDC-9558-50A5AFE0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9DB5-A2CD-40CF-836D-0A576ED0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AAE2-9463-4D5F-9107-FB38C0FB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F6B3-2B8E-4950-BE5B-EE0A5345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8428C-4D53-4534-B617-3A5B2698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3733-409B-4D54-B204-BCAA695B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EC7-C9AF-4723-8EED-415C58E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2DE3-3205-4B10-9DE4-4C10DFC8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5B64-D17F-4A6E-94FD-BDD8DB18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6A57-0DCC-4442-ABB4-B8F4AEFE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450B-67F6-4C0C-B376-AABB4C8F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F29B-3FA5-4CBE-8FBF-B696938D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DA6-5333-486D-89EF-615F03E5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E41-999C-4E18-9E61-7F1AB618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140-5293-4FB8-8C25-BDD18682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4AD-DD6D-46B3-AEF0-B2B429E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3906-C066-4E2C-9BF0-5A3A7BD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34D-76E7-459F-90BD-B8A6AAE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E75-A80F-40B3-A07D-873D8096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BFFE-48BC-4E84-AEA3-9E8DB32933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6" descr="Background of Slides - CASTLE.png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Background of Slides - CASTLE.png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5257800" y="-152280"/>
            <a:ext cx="3886200" cy="73911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47F0-82C0-46B8-9385-7C75D3AE0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hyperlink" Target="http://www.schooltechleadership.org/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4"/>
          <p:cNvSpPr/>
          <p:nvPr/>
        </p:nvSpPr>
        <p:spPr>
          <a:xfrm>
            <a:off x="5029200" y="0"/>
            <a:ext cx="4114800" cy="627372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t0.gstatic.com/images?q=tbn:ANd9GcSOIDVRa8t8Ay3g8lgg9fi7NNzI_fC6DYXTxS4EvgIZs2-Xcc_RmA"/>
          <p:cNvPicPr/>
          <p:nvPr/>
        </p:nvPicPr>
        <p:blipFill>
          <a:blip r:embed="rId1"/>
          <a:srcRect l="0" t="4439" r="8757" b="14596"/>
          <a:stretch/>
        </p:blipFill>
        <p:spPr>
          <a:xfrm>
            <a:off x="3679920" y="4071960"/>
            <a:ext cx="834840" cy="1112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http://www.uky.edu/Education/EDL/s-bathon.jpg"/>
          <p:cNvPicPr/>
          <p:nvPr/>
        </p:nvPicPr>
        <p:blipFill>
          <a:blip r:embed="rId2"/>
          <a:srcRect l="4280" t="2705" r="16070" b="12990"/>
          <a:stretch/>
        </p:blipFill>
        <p:spPr>
          <a:xfrm>
            <a:off x="1488960" y="4054320"/>
            <a:ext cx="849600" cy="1132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http://www.hs.iastate.edu/directory/images/profile/jnash.jpg"/>
          <p:cNvPicPr/>
          <p:nvPr/>
        </p:nvPicPr>
        <p:blipFill>
          <a:blip r:embed="rId3"/>
          <a:srcRect l="7697" t="0" r="7697" b="24790"/>
          <a:stretch/>
        </p:blipFill>
        <p:spPr>
          <a:xfrm>
            <a:off x="469800" y="4054320"/>
            <a:ext cx="838440" cy="1117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http://education.uky.edu/EDL/sites/education.uky.edu.EDL/files/s-richardson.jpg"/>
          <p:cNvPicPr/>
          <p:nvPr/>
        </p:nvPicPr>
        <p:blipFill>
          <a:blip r:embed="rId4"/>
          <a:srcRect l="0" t="0" r="11414" b="8554"/>
          <a:stretch/>
        </p:blipFill>
        <p:spPr>
          <a:xfrm>
            <a:off x="2549520" y="4029120"/>
            <a:ext cx="898560" cy="1166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33760" y="609480"/>
            <a:ext cx="3429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ctivities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Re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eer-Reviewed Artic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Gr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chool Technology Leadership Progra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ofessional Development 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chool Data Tutoria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ng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logging Net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YouTube Vide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LEA &amp; SEA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University Serv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830600" y="37162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rectorat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462600" y="5164200"/>
            <a:ext cx="8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. John Na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2368440" y="5164200"/>
            <a:ext cx="1306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. Jayson Richards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1372320" y="5164200"/>
            <a:ext cx="10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. Justin Bath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23"/>
          <p:cNvSpPr/>
          <p:nvPr/>
        </p:nvSpPr>
        <p:spPr>
          <a:xfrm>
            <a:off x="3575160" y="5164200"/>
            <a:ext cx="106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Dr. Scott McLeo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5029200" y="6705720"/>
            <a:ext cx="4114800" cy="1522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6"/>
          <p:cNvSpPr/>
          <p:nvPr/>
        </p:nvSpPr>
        <p:spPr>
          <a:xfrm>
            <a:off x="908280" y="2895480"/>
            <a:ext cx="31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schooltechleadership.or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3" descr=""/>
          <p:cNvPicPr/>
          <p:nvPr/>
        </p:nvPicPr>
        <p:blipFill>
          <a:blip r:embed="rId6"/>
          <a:stretch/>
        </p:blipFill>
        <p:spPr>
          <a:xfrm>
            <a:off x="457200" y="457200"/>
            <a:ext cx="4002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33520" y="487440"/>
            <a:ext cx="2833560" cy="174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781680" y="762120"/>
            <a:ext cx="1959120" cy="4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3"/>
          <a:stretch/>
        </p:blipFill>
        <p:spPr>
          <a:xfrm>
            <a:off x="6781680" y="1254240"/>
            <a:ext cx="2165400" cy="422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4"/>
          <a:stretch/>
        </p:blipFill>
        <p:spPr>
          <a:xfrm>
            <a:off x="6753240" y="2133720"/>
            <a:ext cx="1857240" cy="37152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4"/>
          <p:cNvSpPr/>
          <p:nvPr/>
        </p:nvSpPr>
        <p:spPr>
          <a:xfrm>
            <a:off x="1072800" y="228600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40,000,000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YouTube 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5"/>
          <p:cNvSpPr/>
          <p:nvPr/>
        </p:nvSpPr>
        <p:spPr>
          <a:xfrm>
            <a:off x="4924440" y="763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30,000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Daily Blog Subscri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5"/>
          <a:stretch/>
        </p:blipFill>
        <p:spPr>
          <a:xfrm>
            <a:off x="4114800" y="1293840"/>
            <a:ext cx="2674800" cy="382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6"/>
          <a:stretch/>
        </p:blipFill>
        <p:spPr>
          <a:xfrm>
            <a:off x="4267080" y="1676520"/>
            <a:ext cx="2217960" cy="31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"/>
          <p:cNvPicPr/>
          <p:nvPr/>
        </p:nvPicPr>
        <p:blipFill>
          <a:blip r:embed="rId7"/>
          <a:stretch/>
        </p:blipFill>
        <p:spPr>
          <a:xfrm>
            <a:off x="4267080" y="2133720"/>
            <a:ext cx="2598840" cy="371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8"/>
          <a:stretch/>
        </p:blipFill>
        <p:spPr>
          <a:xfrm>
            <a:off x="4267080" y="762120"/>
            <a:ext cx="2133720" cy="471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"/>
          <p:cNvPicPr/>
          <p:nvPr/>
        </p:nvPicPr>
        <p:blipFill>
          <a:blip r:embed="rId9"/>
          <a:stretch/>
        </p:blipFill>
        <p:spPr>
          <a:xfrm>
            <a:off x="6705720" y="1600200"/>
            <a:ext cx="2209680" cy="4874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21"/>
          <p:cNvSpPr/>
          <p:nvPr/>
        </p:nvSpPr>
        <p:spPr>
          <a:xfrm>
            <a:off x="2362320" y="4191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$6,000,000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External Funding &amp; Research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2" descr="http://www.gwaea.org/intranet/documents/images/scottMcLeod.jpg"/>
          <p:cNvPicPr/>
          <p:nvPr/>
        </p:nvPicPr>
        <p:blipFill>
          <a:blip r:embed="rId10"/>
          <a:stretch/>
        </p:blipFill>
        <p:spPr>
          <a:xfrm>
            <a:off x="7238880" y="3124080"/>
            <a:ext cx="1716120" cy="18288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3"/>
          <p:cNvSpPr/>
          <p:nvPr/>
        </p:nvSpPr>
        <p:spPr>
          <a:xfrm>
            <a:off x="4191120" y="320040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400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Refereed or Invited Presen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4" descr="http://www.conps.org/research%20grant%20reports/research_grant_report_Linda_Kothera_clip_image002.gif"/>
          <p:cNvPicPr/>
          <p:nvPr/>
        </p:nvPicPr>
        <p:blipFill>
          <a:blip r:embed="rId11"/>
          <a:stretch/>
        </p:blipFill>
        <p:spPr>
          <a:xfrm>
            <a:off x="685800" y="3886200"/>
            <a:ext cx="1738440" cy="15350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5"/>
          <p:cNvSpPr/>
          <p:nvPr/>
        </p:nvSpPr>
        <p:spPr>
          <a:xfrm>
            <a:off x="57913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10,000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66"/>
                </a:solidFill>
                <a:latin typeface="Arial Black"/>
              </a:rPr>
              <a:t>Twitter Follow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2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2" descr="http://www.deankennedy.com/blog/wp-content/uploads/twitter_bird.jpg"/>
          <p:cNvPicPr/>
          <p:nvPr/>
        </p:nvPicPr>
        <p:blipFill>
          <a:blip r:embed="rId12"/>
          <a:stretch/>
        </p:blipFill>
        <p:spPr>
          <a:xfrm>
            <a:off x="5029200" y="5334120"/>
            <a:ext cx="12272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2409840" y="1752480"/>
            <a:ext cx="6734160" cy="44182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38120" y="151920"/>
            <a:ext cx="3581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lobal Presence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Work in 12 Count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4178160" cy="2076480"/>
          </a:xfrm>
          <a:prstGeom prst="rect">
            <a:avLst/>
          </a:prstGeom>
          <a:ln w="0">
            <a:noFill/>
          </a:ln>
        </p:spPr>
      </p:pic>
      <p:sp>
        <p:nvSpPr>
          <p:cNvPr id="135" name="Title 1"/>
          <p:cNvSpPr/>
          <p:nvPr/>
        </p:nvSpPr>
        <p:spPr>
          <a:xfrm>
            <a:off x="-152280" y="3200400"/>
            <a:ext cx="2514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tional Presence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Development in 22 States, including directly with 7 State Departments of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5627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66"/>
                </a:solidFill>
                <a:latin typeface="Calibri"/>
              </a:rPr>
              <a:t>Iowa 1 to 1 Laptop Deployment: 2010-2011 School Y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8" name=""/>
          <p:cNvGraphicFramePr/>
          <p:nvPr/>
        </p:nvGraphicFramePr>
        <p:xfrm>
          <a:off x="6095880" y="1371600"/>
          <a:ext cx="2743200" cy="2849400"/>
        </p:xfrm>
        <a:graphic>
          <a:graphicData uri="http://schemas.openxmlformats.org/drawingml/2006/table">
            <a:tbl>
              <a:tblPr/>
              <a:tblGrid>
                <a:gridCol w="1295640"/>
                <a:gridCol w="1447560"/>
              </a:tblGrid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ool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-1 Schoo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3366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-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anticipat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533412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00240" y="1519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essional Development Offe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648320" y="1447920"/>
          <a:ext cx="4419360" cy="457668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120"/>
              </a:tblGrid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D 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d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cal Form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World Has Chang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ers: Superintendents, Principals, Chief Information Offic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3 Hour Worksh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Lead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ers: Superintendents, Principals, Chief Information Offic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Day, Recurring with follow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Boot C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ers &amp; Teac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and a half, nonrecur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-to-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dership Teams in 1-1 Distri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ical conference format (summer institute);  In-district training also avail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52280" y="1447920"/>
          <a:ext cx="4343400" cy="4059000"/>
        </p:xfrm>
        <a:graphic>
          <a:graphicData uri="http://schemas.openxmlformats.org/drawingml/2006/table">
            <a:tbl>
              <a:tblPr/>
              <a:tblGrid>
                <a:gridCol w="1757520"/>
                <a:gridCol w="2585880"/>
              </a:tblGrid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gram &amp;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ils (subject to chan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3366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Technology Leadershi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cation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credit hours in 5 courses based on the NETS-A Standards. Expected launch, Fall 2011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Technology Leadership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ters or Ed.S. Deg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 credit hours in 11 courses, plus non-thesis portfolio option. Incorporates 5 core School Technology Leadership courses. Ed.S. is an option for people with an existing Masters degree. Expected launch, Fall 20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471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 Technology Leadershi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.D.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credit hours in 14 courses plus dissertation credits. Incorporates 5 core School Technology Leadership courses. Expected launch, Fall 2012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43" name="Title 1"/>
          <p:cNvSpPr/>
          <p:nvPr/>
        </p:nvSpPr>
        <p:spPr>
          <a:xfrm>
            <a:off x="457200" y="152280"/>
            <a:ext cx="3962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Academic Offe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0:48:20Z</dcterms:created>
  <dc:creator>jba225</dc:creator>
  <dc:description/>
  <dc:language>en-US</dc:language>
  <cp:lastModifiedBy>Jayson Richardson</cp:lastModifiedBy>
  <dcterms:modified xsi:type="dcterms:W3CDTF">2011-02-03T14:30:56Z</dcterms:modified>
  <cp:revision>24</cp:revision>
  <dc:subject/>
  <dc:title>Slide 1</dc:title>
</cp:coreProperties>
</file>